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0F9D-5798-43F0-8E6F-44441B93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84CD-6EDB-490F-AB9B-D3293E53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45A4-0063-44AD-9AD5-7BB77BD32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9AD0-D819-422F-821B-A10CA0C68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D815-6A55-44FC-BD6A-F66AD7FE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814D-DECD-48D8-BD5B-62DC2220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7356-6A85-433A-97FE-15CB1777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DA48-7D80-4577-9AC6-B57EEE7D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331A-2C77-42E8-B9A2-4C780530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1584-6A7D-4873-97DC-7409CC28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AA02-EF6F-43D7-A6E5-BE8E4243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CD5F-58CE-4970-AB33-D7F8F13C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29AC-8C93-4A90-8ACD-8AACA1B9A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3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286000"/>
            <a:ext cx="83822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Exercises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on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Measures of Effec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419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295280" y="4876920"/>
            <a:ext cx="68580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96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3880" y="380880"/>
            <a:ext cx="4953240" cy="533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219320" y="914400"/>
            <a:ext cx="640080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066680" y="3429000"/>
            <a:ext cx="7696440" cy="1371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143000" y="4800600"/>
            <a:ext cx="76960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441360"/>
            <a:ext cx="7848720" cy="2378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2819520"/>
            <a:ext cx="7848720" cy="3657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934320" y="6172200"/>
            <a:ext cx="16002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7696440" cy="1447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696440" cy="1622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447920" y="380880"/>
            <a:ext cx="6248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2743200"/>
            <a:ext cx="7696080" cy="1219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447920" y="380880"/>
            <a:ext cx="6248160" cy="2286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838080" y="3962520"/>
            <a:ext cx="7620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7467480" cy="1143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391520" y="3505320"/>
            <a:ext cx="10666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447920" y="380880"/>
            <a:ext cx="6248160" cy="2286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066680" y="3886200"/>
            <a:ext cx="73915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391160" cy="2971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990720" y="3505320"/>
            <a:ext cx="7391160" cy="2590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209680" y="5791320"/>
            <a:ext cx="47372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553440" cy="1523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7467840" cy="17528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838080" y="3733920"/>
            <a:ext cx="7467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6553440" cy="1676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90720" y="2438280"/>
            <a:ext cx="7086600" cy="990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990720" y="3429000"/>
            <a:ext cx="7086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6553440" cy="1676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143000" y="2438280"/>
            <a:ext cx="7086600" cy="1019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143000" y="3429000"/>
            <a:ext cx="7086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553080" cy="1676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219320" y="2133720"/>
            <a:ext cx="7010280" cy="99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219320" y="3124080"/>
            <a:ext cx="6933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620120" cy="4114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8080" y="4572000"/>
            <a:ext cx="7696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8001000" cy="3733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7924680" cy="914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62120" y="4952880"/>
            <a:ext cx="7924680" cy="16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848720" cy="4114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62120" y="4572000"/>
            <a:ext cx="7772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7772400" cy="4419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19320" y="4800600"/>
            <a:ext cx="6553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543800" cy="2733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120" y="3276720"/>
            <a:ext cx="754380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219320" y="4876920"/>
            <a:ext cx="6095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17T22:29:39Z</dcterms:modified>
  <cp:revision>1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86904489</vt:r8>
  </property>
  <property fmtid="{D5CDD505-2E9C-101B-9397-08002B2CF9AE}" pid="3" name="_AuthorEmail">
    <vt:lpwstr>dgk0@cdc.gov</vt:lpwstr>
  </property>
  <property fmtid="{D5CDD505-2E9C-101B-9397-08002B2CF9AE}" pid="4" name="_AuthorEmailDisplayName">
    <vt:lpwstr>Kleinbaum, David</vt:lpwstr>
  </property>
  <property fmtid="{D5CDD505-2E9C-101B-9397-08002B2CF9AE}" pid="5" name="_EmailSubject">
    <vt:lpwstr>meas of disease freq pp attached</vt:lpwstr>
  </property>
</Properties>
</file>